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12B-5B7A-4F2F-AEFD-6FD1EB53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84D-D61F-4C4A-8EE5-F9A7FA69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CC6-A321-4C24-BE5D-C33A2CB0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2FA-89CF-47F4-9D6F-D347959F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A971-CC3D-42AF-A87F-8D3243F9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4ADA-FB25-430F-BBD6-9D2BDA2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AEA2-6F7E-423E-B6AD-51992DCD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848-14E0-4935-BF94-3249F2D9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373D-B0FA-45DF-9A89-256CCD4C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98D7-43FC-45BB-B510-4F1FF13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DD59-17DE-4854-BE33-1410980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F3A-152A-413D-8175-9ADE0EB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B80-3437-4BB5-AECC-611E834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82DE-D1C8-405C-A8EF-BBE7F876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51B5-C9A7-4CAD-8AE0-A5091F0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0ACD-16B2-4832-AF2B-1FF0DF13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DEDB-F521-41FD-9F95-4C478389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BF4-3636-4E21-AF03-DCC16472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1AF-CABC-4852-9A81-B526F8EE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E9A-354A-490E-9A6B-4CBD5694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54E-8A2B-4818-94D7-F5AE3CC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F89-40B1-4210-AF23-B2485AA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56F-553C-4238-B24C-2CCAF97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EB7-5D15-48CC-9B4E-8C6987E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F035-A97F-494F-AF12-3C0F74092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7CA4-E2A4-4E27-8A36-597E24ED2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8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Bookman Old Style"/>
              </a:rPr>
              <a:t>Класс насекомы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24000" y="5105520"/>
            <a:ext cx="49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бова Надеж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34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D:\ТАША\картинки\бабочки , насекомые\animated_fly.gif"/>
          <p:cNvPicPr/>
          <p:nvPr/>
        </p:nvPicPr>
        <p:blipFill>
          <a:blip r:embed="rId1"/>
          <a:stretch/>
        </p:blipFill>
        <p:spPr>
          <a:xfrm>
            <a:off x="5796000" y="3860640"/>
            <a:ext cx="2241360" cy="224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ТАША\картинки\бабочки , насекомые\beeсм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947880"/>
            <a:ext cx="15112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15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М., 1980 г., 450 с. Яхонтов В.В. Экология насекомых. М.: Высшая школа, 1969 г. 488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Кожанчиков И. В. Методы исследования экологии насекомых. М., “Высшая школа”, 1961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Литература по лесной энтомологии. Общие вопросы лесной энтомологии: Аверкиев И. С. Атлас вреднейших насекомых леса. 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3280" y="260280"/>
            <a:ext cx="594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f2fd"/>
                </a:solidFill>
                <a:latin typeface="Bookman Old Style"/>
              </a:rPr>
              <a:t>Цель проекта: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 Изучить многообразие насекомых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и их роль в природ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468520"/>
            <a:ext cx="3127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Задачи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1.Расширить знания учащихся о многообразии насекомых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2.Показать их значение в разнообразных природных сообществах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3.Объяснить особенности строения и жизнедеятельности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4.Совершенствовать умение узнавать насекомых на рисунках, таблица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0160" y="475920"/>
            <a:ext cx="88534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Это самый многочисленный класс животных на Земле. Известно около </a:t>
            </a:r>
            <a:r>
              <a:rPr b="0" i="1" lang="en-US" sz="2800" spc="-1" strike="noStrike">
                <a:solidFill>
                  <a:srgbClr val="fcbaba"/>
                </a:solidFill>
                <a:latin typeface="Bookman Old Style"/>
              </a:rPr>
              <a:t>1.5 млн.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 в насекомых. 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Обладают наибольшим разнообразием среди всех остальных животных на Земле; включают бабочек, жуков, мух, муравьёв, пчёл и других.</a:t>
            </a:r>
            <a:r>
              <a:rPr b="0" i="1" lang="en-US" sz="4400" spc="-1" strike="noStrike">
                <a:solidFill>
                  <a:srgbClr val="ffffb7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 Насекомые приспособились к самым различным средам обитания; единственные представители беспозвоночных животных способных летат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360" y="4621320"/>
            <a:ext cx="3168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Роль насекомых в природе и в жизни челове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600200"/>
            <a:ext cx="8228880" cy="4524840"/>
            <a:chOff x="457200" y="1600200"/>
            <a:chExt cx="8228880" cy="4524840"/>
          </a:xfrm>
        </p:grpSpPr>
        <p:cxnSp>
          <p:nvCxnSpPr>
            <p:cNvPr id="109" name="_s9224"/>
            <p:cNvCxnSpPr>
              <a:stCxn id="110" idx="1"/>
              <a:endCxn id="111" idx="2"/>
            </p:cNvCxnSpPr>
            <p:nvPr/>
          </p:nvCxnSpPr>
          <p:spPr>
            <a:xfrm rot="10800000">
              <a:off x="4570200" y="2730600"/>
              <a:ext cx="305280" cy="113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9225"/>
            <p:cNvCxnSpPr>
              <a:stCxn id="113" idx="3"/>
              <a:endCxn id="111" idx="2"/>
            </p:cNvCxnSpPr>
            <p:nvPr/>
          </p:nvCxnSpPr>
          <p:spPr>
            <a:xfrm flipV="1">
              <a:off x="4266000" y="2730960"/>
              <a:ext cx="305280" cy="113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9226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040720" y="2260080"/>
              <a:ext cx="2263320" cy="320400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9227"/>
            <p:cNvCxnSpPr>
              <a:stCxn id="117" idx="0"/>
              <a:endCxn id="111" idx="2"/>
            </p:cNvCxnSpPr>
            <p:nvPr/>
          </p:nvCxnSpPr>
          <p:spPr>
            <a:xfrm flipV="1" rot="16200000">
              <a:off x="3973680" y="3327120"/>
              <a:ext cx="2263320" cy="106992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9228"/>
            <p:cNvCxnSpPr>
              <a:stCxn id="119" idx="0"/>
              <a:endCxn id="111" idx="2"/>
            </p:cNvCxnSpPr>
            <p:nvPr/>
          </p:nvCxnSpPr>
          <p:spPr>
            <a:xfrm flipH="1" flipV="1" rot="5400000">
              <a:off x="2907000" y="3329640"/>
              <a:ext cx="2263320" cy="106560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9229"/>
            <p:cNvCxnSpPr>
              <a:stCxn id="121" idx="0"/>
              <a:endCxn id="111" idx="2"/>
            </p:cNvCxnSpPr>
            <p:nvPr/>
          </p:nvCxnSpPr>
          <p:spPr>
            <a:xfrm flipH="1" flipV="1" rot="5400000">
              <a:off x="1839600" y="2262600"/>
              <a:ext cx="2263320" cy="319968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9230"/>
            <p:cNvSpPr/>
            <p:nvPr/>
          </p:nvSpPr>
          <p:spPr>
            <a:xfrm>
              <a:off x="3656160" y="160020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6600"/>
                  </a:solidFill>
                  <a:uFillTx/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9231"/>
            <p:cNvSpPr/>
            <p:nvPr/>
          </p:nvSpPr>
          <p:spPr>
            <a:xfrm>
              <a:off x="45720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Насекомы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живущие в почв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пособствуют её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ыхлению 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набжению кислоро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9232"/>
            <p:cNvSpPr/>
            <p:nvPr/>
          </p:nvSpPr>
          <p:spPr>
            <a:xfrm>
              <a:off x="259128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Являются пище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для друг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животн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9233"/>
            <p:cNvSpPr/>
            <p:nvPr/>
          </p:nvSpPr>
          <p:spPr>
            <a:xfrm>
              <a:off x="472536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Питаются растениям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граничивают 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ост  и развит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9234"/>
            <p:cNvSpPr/>
            <p:nvPr/>
          </p:nvSpPr>
          <p:spPr>
            <a:xfrm>
              <a:off x="6859440" y="4993920"/>
              <a:ext cx="182664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Уничтожают труп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и органическ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статк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выполня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анитарную ро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9235"/>
            <p:cNvSpPr/>
            <p:nvPr/>
          </p:nvSpPr>
          <p:spPr>
            <a:xfrm>
              <a:off x="2436480" y="329688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пыл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цветков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аст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(пчела, шмел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дневные бабочки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9236"/>
            <p:cNvSpPr/>
            <p:nvPr/>
          </p:nvSpPr>
          <p:spPr>
            <a:xfrm>
              <a:off x="4875840" y="329688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Питаются друг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насекомым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граничив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их числен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11280" y="1125360"/>
            <a:ext cx="8281080" cy="4511880"/>
            <a:chOff x="611280" y="1125360"/>
            <a:chExt cx="8281080" cy="4511880"/>
          </a:xfrm>
        </p:grpSpPr>
        <p:cxnSp>
          <p:nvCxnSpPr>
            <p:cNvPr id="123" name="_s31751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749560" y="1931400"/>
              <a:ext cx="902880" cy="2899080"/>
            </a:xfrm>
            <a:prstGeom prst="bentConnector3">
              <a:avLst>
                <a:gd name="adj1" fmla="val 20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31752"/>
            <p:cNvCxnSpPr>
              <a:stCxn id="127" idx="0"/>
              <a:endCxn id="125" idx="2"/>
            </p:cNvCxnSpPr>
            <p:nvPr/>
          </p:nvCxnSpPr>
          <p:spPr>
            <a:xfrm flipV="1">
              <a:off x="4751640" y="2929680"/>
              <a:ext cx="3240" cy="902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31753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850840" y="1931400"/>
              <a:ext cx="902880" cy="2899080"/>
            </a:xfrm>
            <a:prstGeom prst="bentConnector3">
              <a:avLst>
                <a:gd name="adj1" fmla="val 20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31754"/>
            <p:cNvSpPr/>
            <p:nvPr/>
          </p:nvSpPr>
          <p:spPr>
            <a:xfrm>
              <a:off x="3509640" y="11253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31755"/>
            <p:cNvSpPr/>
            <p:nvPr/>
          </p:nvSpPr>
          <p:spPr>
            <a:xfrm>
              <a:off x="61128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редители раст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саранча, медведки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тли, яблонный цветоед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свекловичны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долгоносик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31756"/>
            <p:cNvSpPr/>
            <p:nvPr/>
          </p:nvSpPr>
          <p:spPr>
            <a:xfrm>
              <a:off x="350964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Переносчик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озбудител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болезн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комнатная .муха)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1757"/>
            <p:cNvSpPr/>
            <p:nvPr/>
          </p:nvSpPr>
          <p:spPr>
            <a:xfrm>
              <a:off x="640800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паразит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бычий кожный овод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ши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92720" y="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3851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Особенности строения насеком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2" descr="D:\ТАША\картинки\бабочки , насекомые\C14-5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71628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При изучении данной темы мы, действительно узнаем, что Класс Насекомые занимает самую большую численность фауны нашей планеты.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Познакомились с морфологией насекомого, а также выяснили их роль в природе и в жизни челове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92360" y="549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77080" y="5345280"/>
            <a:ext cx="22669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D:\ТАША\картинки\бабочки , насекомые\animated_ladybug.gif"/>
          <p:cNvPicPr/>
          <p:nvPr/>
        </p:nvPicPr>
        <p:blipFill>
          <a:blip r:embed="rId2"/>
          <a:stretch/>
        </p:blipFill>
        <p:spPr>
          <a:xfrm>
            <a:off x="611280" y="260280"/>
            <a:ext cx="1376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21:25:32Z</dcterms:created>
  <dc:creator>надюша</dc:creator>
  <dc:description/>
  <dc:language>en-US</dc:language>
  <cp:lastModifiedBy>надюша</cp:lastModifiedBy>
  <dcterms:modified xsi:type="dcterms:W3CDTF">2011-05-12T16:42:04Z</dcterms:modified>
  <cp:revision>3</cp:revision>
  <dc:subject/>
  <dc:title>Класс насекомые</dc:title>
</cp:coreProperties>
</file>